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3DA-111D-4312-9ED6-F6A54491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33E-23ED-4FD0-AAED-35577FF9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3AF-1352-47FB-91D3-38E30C08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FA5-2841-44C2-8B43-30079843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DF5-AE32-4AA3-A01B-A0E6771B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4E5-CC02-4A26-AABE-F93369A4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21F-E8A5-4E5D-8A3D-474749CD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54D-1196-4893-96C0-B20C5B28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B54-1BFF-4978-A59A-8EDDD8EE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9AA-615A-4DCC-B92A-94CD14F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919-C9AB-4443-8F87-181E835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216-1FE5-4DB8-89EA-38EB707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BC98-4019-4EEC-9D46-2EC37F3C8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6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wmf"/><Relationship Id="rId4" Type="http://schemas.openxmlformats.org/officeDocument/2006/relationships/image" Target="../media/image8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11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1524240" cy="1269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9880" y="457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705720" y="304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2819520"/>
            <a:ext cx="1904760" cy="130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654360" y="270504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858000" y="2209680"/>
            <a:ext cx="1716120" cy="150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3352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76720" y="502920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55308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533520" y="380880"/>
            <a:ext cx="1676160" cy="161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1981080" y="35812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4920" y="47242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0880" y="320040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24040" y="4724280"/>
            <a:ext cx="1795680" cy="142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943520" y="47242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262640" y="4724280"/>
            <a:ext cx="1795680" cy="142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981080" y="175248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3581280" y="175248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5181480" y="175248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7162920" y="1828800"/>
            <a:ext cx="1523880" cy="127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2584440" y="312408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4788000" y="3048120"/>
            <a:ext cx="1834920" cy="1447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6991200" y="3200400"/>
            <a:ext cx="1835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1834920" cy="1447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438280" y="1752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419720" y="1752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00800" y="1752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1828800" y="2971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352680" y="2895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87692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6400800" y="2743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203560" y="4800600"/>
            <a:ext cx="1834920" cy="1447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4102200" y="4800600"/>
            <a:ext cx="1834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6000840" y="4800600"/>
            <a:ext cx="1834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429680" y="31240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467480" y="152388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543800" y="50292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95880" y="152388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648320" y="1523880"/>
            <a:ext cx="1676160" cy="1611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594360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4114800" y="50292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5791320" y="31240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191120" y="31240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2"/>
          <a:stretch/>
        </p:blipFill>
        <p:spPr>
          <a:xfrm>
            <a:off x="2514600" y="31240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2362320" y="1752480"/>
            <a:ext cx="1904760" cy="13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>
            <a:off x="2286000" y="495288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5"/>
          <a:stretch/>
        </p:blipFill>
        <p:spPr>
          <a:xfrm>
            <a:off x="304920" y="4952880"/>
            <a:ext cx="1904760" cy="130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6"/>
          <a:stretch/>
        </p:blipFill>
        <p:spPr>
          <a:xfrm>
            <a:off x="457200" y="3124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47920" y="1447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89548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34340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791320" y="1447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0" y="2819520"/>
            <a:ext cx="1716120" cy="150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7238880" y="297180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0866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4876920" y="3124080"/>
            <a:ext cx="1904760" cy="130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2514600" y="3276720"/>
            <a:ext cx="1905120" cy="130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152280" y="4668840"/>
            <a:ext cx="1716120" cy="150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2438280" y="4724280"/>
            <a:ext cx="1716120" cy="150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4876920" y="4724280"/>
            <a:ext cx="1834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352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943280" y="31240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581280" y="3048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219640" y="2971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858000" y="28954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4952880" y="160020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6705720" y="1523880"/>
            <a:ext cx="1676160" cy="1611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1905120" y="1523880"/>
            <a:ext cx="1676160" cy="161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3352680" y="152388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228600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403848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5"/>
          <a:stretch/>
        </p:blipFill>
        <p:spPr>
          <a:xfrm>
            <a:off x="579132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6"/>
          <a:stretch/>
        </p:blipFill>
        <p:spPr>
          <a:xfrm>
            <a:off x="7543800" y="4952880"/>
            <a:ext cx="16002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90512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886200" y="3505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562720" y="3505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742968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429000" y="236232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5257800" y="236232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228600" y="228600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1752480" y="228600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2133720" y="50292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4038480" y="5105520"/>
            <a:ext cx="1600200" cy="1257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5791320" y="5181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7543800" y="5181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6"/>
          <a:stretch/>
        </p:blipFill>
        <p:spPr>
          <a:xfrm>
            <a:off x="7238880" y="228600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7"/>
          <a:stretch/>
        </p:blipFill>
        <p:spPr>
          <a:xfrm>
            <a:off x="152280" y="160020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8"/>
          <a:stretch/>
        </p:blipFill>
        <p:spPr>
          <a:xfrm>
            <a:off x="2133720" y="1523880"/>
            <a:ext cx="1904760" cy="1305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9"/>
          <a:stretch/>
        </p:blipFill>
        <p:spPr>
          <a:xfrm>
            <a:off x="4114800" y="151452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0"/>
          <a:stretch/>
        </p:blipFill>
        <p:spPr>
          <a:xfrm>
            <a:off x="6095880" y="1590840"/>
            <a:ext cx="19051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822320" y="152388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645000" y="1447920"/>
            <a:ext cx="1834920" cy="144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467320" y="137160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289640" y="129528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0" y="4572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1409760" y="4572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2819520" y="4572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tretch/>
        </p:blipFill>
        <p:spPr>
          <a:xfrm>
            <a:off x="4229280" y="4572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tretch/>
        </p:blipFill>
        <p:spPr>
          <a:xfrm>
            <a:off x="5638680" y="4572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tretch/>
        </p:blipFill>
        <p:spPr>
          <a:xfrm>
            <a:off x="7048440" y="4572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23:00Z</dcterms:created>
  <dc:creator>Brook Polidano</dc:creator>
  <dc:description/>
  <dc:language>en-US</dc:language>
  <cp:lastModifiedBy>Brook Polidano</cp:lastModifiedBy>
  <dcterms:modified xsi:type="dcterms:W3CDTF">2010-03-29T09:13:13Z</dcterms:modified>
  <cp:revision>3</cp:revision>
  <dc:subject/>
  <dc:title>Slide 1</dc:title>
</cp:coreProperties>
</file>